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45456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81840" y="162828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82692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45456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81840" y="3904920"/>
            <a:ext cx="250200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58560" y="0"/>
            <a:ext cx="7085160" cy="564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8880" y="390492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692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8880" y="1628280"/>
            <a:ext cx="379188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6920" y="3904920"/>
            <a:ext cx="7770960" cy="207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26920" y="1628280"/>
            <a:ext cx="77709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124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54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258560" y="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2262960" y="6305400"/>
            <a:ext cx="63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 </a:t>
            </a:r>
            <a:r>
              <a:rPr b="1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Formation Développeur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	</a:t>
            </a:r>
            <a:r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Page : </a:t>
            </a:r>
            <a:fld id="{CDEC5422-BF1E-428F-B49A-A9779503F512}" type="slidenum">
              <a:rPr b="0" lang="fr-FR" sz="1600" spc="-1" strike="noStrike">
                <a:solidFill>
                  <a:srgbClr val="808080"/>
                </a:solidFill>
                <a:latin typeface="Verdana"/>
                <a:ea typeface="ＭＳ Ｐゴシック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419040" y="6010200"/>
            <a:ext cx="952560" cy="590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4005360"/>
            <a:ext cx="9144000" cy="285264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50000">
                <a:srgbClr val="003b00"/>
              </a:gs>
              <a:gs pos="100000">
                <a:srgbClr val="008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58560" y="3798720"/>
            <a:ext cx="4103640" cy="15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8000" y="620640"/>
            <a:ext cx="4762800" cy="29433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995280" y="5300280"/>
            <a:ext cx="5146920" cy="65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14480" y="177840"/>
            <a:ext cx="2199960" cy="13604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516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332000" y="5013000"/>
            <a:ext cx="689616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c0c0c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repository.silverpeas.org/sdk/archetype-catalog.xml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Formation Développeur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2743200" y="5300640"/>
            <a:ext cx="64008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2ème partie : le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Maven Archetyp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n </a:t>
            </a:r>
            <a:r>
              <a:rPr b="1" lang="fr-FR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catalogue 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qui contient deux modèles de peas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vec EJB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ans EJ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540360" y="4005360"/>
            <a:ext cx="8213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Assemb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21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projet sous Subversion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OM décrivant l'ensemble des services à mettre en place dans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dépendant de la plate-forme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2995920" y="3933720"/>
            <a:ext cx="385056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outils nécessaires à la production de Silverpea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p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dbBuild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Setting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a configura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ient les résultats  de la construction de Silverpeas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14400" y="3716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struire un composa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743200" y="5229360"/>
            <a:ext cx="64008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Les différentes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Génération du proj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640720" cy="472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Télécharger le fichier catalog.xml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Exécuter la commande 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paramètres sont les suivants: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classNam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 en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group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</a:t>
            </a:r>
            <a:r>
              <a:rPr b="0" i="1" lang="fr-FR" sz="1800" spc="-1" strike="noStrike">
                <a:solidFill>
                  <a:srgbClr val="808080"/>
                </a:solidFill>
                <a:latin typeface="Verdana"/>
              </a:rPr>
              <a:t>com.silverpeas.components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artifactId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nom du composant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version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a version initiale 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451"/>
              </a:spcBef>
              <a:buSzPct val="160405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Verdana"/>
              </a:rPr>
              <a:t>package</a:t>
            </a:r>
            <a:r>
              <a:rPr b="0" lang="fr-FR" sz="1800" spc="-1" strike="noStrike">
                <a:solidFill>
                  <a:srgbClr val="808080"/>
                </a:solidFill>
                <a:latin typeface="Verdana"/>
              </a:rPr>
              <a:t>: le package Java</a:t>
            </a:r>
            <a:endParaRPr b="0" lang="en-US" sz="1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3052800"/>
            <a:ext cx="871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mvn archetype:generate -DarchetypeCatalog=file:///C:/tmp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560600" y="2044800"/>
            <a:ext cx="5933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rchetype-catalog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Builder le compon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1547640" y="3357720"/>
            <a:ext cx="633744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60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déploiem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Tout se fait dans le projet assembly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Récupérer le fichi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Ajouter les 3 modules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ejb/j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confi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wa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xécuter la commande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3065400" y="5013360"/>
            <a:ext cx="34815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808080"/>
                </a:solidFill>
                <a:latin typeface="Times New Roman"/>
              </a:rPr>
              <a:t>mvn clean insta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30160" y="2421000"/>
            <a:ext cx="5575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808080"/>
                </a:solidFill>
                <a:latin typeface="Times New Roman"/>
              </a:rPr>
              <a:t>https://repository.silverpeas.org/sdk/assembly/pom.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762120" y="3397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L’application build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743200" y="4797360"/>
            <a:ext cx="6400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Principes de fonction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a constr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820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 u="sng">
                <a:solidFill>
                  <a:srgbClr val="808080"/>
                </a:solidFill>
                <a:uFillTx/>
                <a:latin typeface="Verdana"/>
              </a:rPr>
              <a:t>L’application builder</a:t>
            </a: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Fonction :</a:t>
            </a: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nstruire le fichier EAR et la librairie cliente.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3080" indent="-3416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Utilisation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silverpeasSettings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app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Production/bin/dbBuilder.ba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344664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Objectifs de la 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32000" y="5013000"/>
            <a:ext cx="6897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0c0c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6920" y="1413000"/>
            <a:ext cx="7772400" cy="52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Les besoins du développeur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sur l’intégration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Minimum de connaissance des API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Formation s’adressant à tout utilisateur ayant vocation à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Développer un component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tégrer un component dans Silverpeas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499"/>
              </a:spcBef>
              <a:buSzPct val="123432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808080"/>
                </a:solidFill>
                <a:latin typeface="Verdana"/>
              </a:rPr>
              <a:t>Objectifs de cette formation</a:t>
            </a:r>
            <a:endParaRPr b="1" lang="en-US" sz="20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601"/>
              </a:spcBef>
              <a:buSzPct val="12025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808080"/>
                </a:solidFill>
                <a:latin typeface="Verdana"/>
              </a:rPr>
              <a:t>Comprendre le fonctionnement du SDK</a:t>
            </a:r>
            <a:endParaRPr b="0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Installation d’un poste de développem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Contenu du SDK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’Application Builder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Etapes pour construire un component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2120" y="346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Install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916520"/>
            <a:ext cx="640080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211560" indent="-321012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1441160"/>
                <a:tab algn="l" pos="12355560"/>
                <a:tab algn="l" pos="132699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Installer et configurer un poste de développ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Le programme d’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Les différentes parties à installer :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JD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Apache Mav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le serveur d’application JBo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808080"/>
                </a:solidFill>
                <a:latin typeface="Verdana"/>
              </a:rPr>
              <a:t>Silverpeas Development Ki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Démonstr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79280" y="3212640"/>
            <a:ext cx="46083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808080"/>
                </a:solidFill>
                <a:latin typeface="Verdana"/>
              </a:rPr>
              <a:t>Place à l'installation …</a:t>
            </a: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2120" y="357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3400" spc="-1" strike="noStrike">
                <a:solidFill>
                  <a:srgbClr val="ffffff"/>
                </a:solidFill>
                <a:latin typeface="Verdana"/>
              </a:rPr>
              <a:t>Contenu du SD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021280"/>
            <a:ext cx="6400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fr-FR" sz="2400" spc="-1" strike="noStrike">
                <a:solidFill>
                  <a:srgbClr val="c0c0c0"/>
                </a:solidFill>
                <a:latin typeface="Verdana"/>
              </a:rPr>
              <a:t>Structure des réperto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58560" y="-3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Configurer Maven</a:t>
            </a:r>
            <a:br>
              <a:rPr sz="3200"/>
            </a:br>
            <a:r>
              <a:rPr b="0" lang="fr-FR" sz="3200" spc="-1" strike="noStrike">
                <a:solidFill>
                  <a:srgbClr val="ffffff"/>
                </a:solidFill>
                <a:latin typeface="Verdana"/>
              </a:rPr>
              <a:t>settings.xm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1484280"/>
            <a:ext cx="7236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ettings&gt;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 Nexu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name&gt;Silverpeas Nexus Public Mirror&lt;/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url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http://repository.silverpeas.org/nexus/content/groups/public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ur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mirrorOf&gt;*&lt;/mirrorOf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mirror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id&gt;Silverpeas&lt;/id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silverpeas.home&gt;</a:t>
            </a:r>
            <a:r>
              <a:rPr b="1" lang="fr-FR" sz="1200" spc="-1" strike="noStrike">
                <a:solidFill>
                  <a:srgbClr val="008000"/>
                </a:solidFill>
                <a:latin typeface="Verdana"/>
              </a:rPr>
              <a:t>C:/Silverpeas/KMEdition/Production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ilverpeas.ho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perti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activeProfile&gt;Silverpeas&lt;/activeProfil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activeProfil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&lt;/setting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1T12:22:04Z</dcterms:created>
  <dc:creator/>
  <dc:description/>
  <dc:language>en-US</dc:language>
  <cp:lastModifiedBy>Emmanuel Hugonnet</cp:lastModifiedBy>
  <dcterms:modified xsi:type="dcterms:W3CDTF">2009-08-10T14:20:31Z</dcterms:modified>
  <cp:revision>51</cp:revision>
  <dc:subject/>
  <dc:title>Présentation PowerPoint</dc:title>
</cp:coreProperties>
</file>